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6747-7504-41D7-AC99-7B0A688E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0051-71D7-4A2C-9997-4E208AA0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DC12-CF97-4AD3-8709-BB6B28F6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F5BE-07A9-4C72-8152-B688BD93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701D-33B8-4F17-BDB0-FE420260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CFD7-FDB4-479D-AB2B-0B94D72A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1154-7649-434D-9351-F67C1F75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C131-B167-4C7A-9CBD-90801ACA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0EB5-1E3C-4E88-B040-E4FB9DAE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D5BE-4620-47F0-8A2D-59A659D5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0CD1-F5E3-404B-80A6-E3C1C5AB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FBEC-51D2-42C6-B140-42165DD1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4DE7-6974-4EAB-B73F-DDC07A9E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6C24-D270-45F6-9C7B-6067B860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A3DB-9A02-4603-9987-7A04AC10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99F8-319A-4DB1-99D0-CF1A44E0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40A3-9EB0-4026-990A-8F9BAB24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CB1CF8-DA67-4C80-A0D0-F54389DB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1BF28-5512-4F86-9D7B-DDD323AC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5445F-45AE-4350-AA7A-017B9C99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68594-C86C-40CE-8CA7-93C5D3D7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5636A9-425E-458B-8373-9690B95B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5A5B-7FC9-46BE-B85B-E2698099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E1228B-A4F7-4A9F-9877-F4BB9EF4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9F5C76-BA82-4BAD-909A-C31332D1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57A7DE-45E9-4336-88BA-28293062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D6527D-8A6E-4195-B8CE-B7CA6CAB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2ACDF1-1E56-4781-A624-F546A4C8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C89BC6-F160-467E-99A3-65765DA3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0226A1-3513-4A93-94AA-8C660366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A0C7A-CBBE-499A-A1DE-C96F81E4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AA315-C45D-4500-AE9D-E952037F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10789-D6EA-402A-A9F2-324F63D4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3CF0-0254-41D0-8A42-B0B324F9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F71C8-616C-4824-BCC8-89FE3254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1F9C8-A76A-49AE-A4AC-7F065679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BC338-B1F2-4D2E-85F5-71ED977D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75B2A-D384-4964-8548-E691AFC7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273C0-4D50-467F-BD9E-4EA99BE4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43339-20C3-419E-8F6D-24F0C3C6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8F501-4B22-43F6-941A-8E071A68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FE8C9-7FBE-483F-96D1-558866C9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A8EA6-A084-4980-8D9E-91D3A2CE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73FD-0B8F-443B-98E3-B9E304C8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D237-BB6C-4B15-8318-19C67E34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8568-73A7-42F3-8A1D-4EE5867C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CD61-0734-4BA2-B954-F0718A2D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2DFF-BF94-421D-8953-6C75B401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1491-8A9A-42EE-9802-C8858F5BBED3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40B8-D999-4329-BEF9-A1DD3BE89065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7D29-74EB-4017-8F1F-F389D225DD63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E6DA-183F-4374-AA29-37450D4C1F68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ewton.ac.uk/newtlife.html" TargetMode="External"/><Relationship Id="rId2" Type="http://schemas.openxmlformats.org/officeDocument/2006/relationships/hyperlink" Target="http://galileoandeinstein.physics.virginia.edu/lectures/newton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Isaac Newton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Dante Robinson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arly Lif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Born January 4th, 1643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incolnshire, Englan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Born 3 months after death of his fathe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ttended The King’s Schoo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ducatio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Removed from school in 1659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Returned to finish his educaito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Became Top ranked studen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ttended Trinity College in Cambrig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fluenc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ewton’s school focused on teachings of Aristotl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ersonally interested in Descartes, Galileo, Copernicus, and Keple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arly Work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n 1665, Newton discovered the Binomial theory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escribes the algebraic expansion of powers of a binomia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Developed infinitesimal calculu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Did background work in calculus, optics, and laws of gravitatio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alculus Work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Responsible for furthering the world of mathematics and calculus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Newton’s identities, Newton’s method, etc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He classified cubic plane curves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Approximated partial sums of the harmonic series by logarithms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Awarded for his work and elected Lucasian Professor of Mathematics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3 Laws of Motio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1. An object in motion will stay in motion unless acted upon by an outside forc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2. F=M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Every action has an equal and opposite reactio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Other Studi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echanic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Gravitatio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ffects on orbit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Designed Newtonian telescop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eory of Gravitatio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Sourc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68200"/>
                </a:solidFill>
                <a:uFillTx/>
                <a:latin typeface="Times New Roman"/>
                <a:hlinkClick r:id="rId1"/>
              </a:rPr>
              <a:t>http://www.newton.ac.uk/newtlife.htm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68200"/>
                </a:solidFill>
                <a:uFillTx/>
                <a:latin typeface="Times New Roman"/>
                <a:hlinkClick r:id="rId2"/>
              </a:rPr>
              <a:t>http://galileoandeinstein.physics.virginia.edu/lectures/newton.htm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ff"/>
                </a:solidFill>
                <a:uFillTx/>
                <a:latin typeface="Times New Roman"/>
              </a:rPr>
              <a:t>http://www.lucidcafe.com/library/95dec/newton.htm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9:30:30Z</dcterms:created>
  <dc:creator>PA Department of Education</dc:creator>
  <dc:description/>
  <dc:language>en-US</dc:language>
  <cp:lastModifiedBy>Dant</cp:lastModifiedBy>
  <dcterms:modified xsi:type="dcterms:W3CDTF">2010-01-28T20:48:32Z</dcterms:modified>
  <cp:revision>3</cp:revision>
  <dc:subject/>
  <dc:title>Isaac Newton</dc:title>
</cp:coreProperties>
</file>